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0A6E-3D38-4714-ACE3-9392A00C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A6FE-8D11-453A-A3DD-98B1F752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62BA-8AF3-4005-A8D2-F1BA90011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51F2-3638-4327-8C95-4E3FBAE83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5FF9-DFC7-4590-8EBD-D2029729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8EBE-7B32-49A6-AE85-EB6FAF96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3093-0020-4C87-AECA-B1922ADC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2982-B26D-4F25-8524-8AD8B5DE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81B3-3262-47E3-B0A5-73F04649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46E6-EF40-4CCE-A599-A3E97FA5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D148-AA21-4F3A-8BB2-D36CD003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804E-271C-4410-8F86-F8EA0BC6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8FB7-9B58-4DAA-AE8C-EB4BE351512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is documentos\Sin título-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Mis documentos\Sin título-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Mis documentos\Sin título-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Mis documentos\Sin título-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Mis documentos\Sin título-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8T14:45:49Z</dcterms:created>
  <dc:creator>Grupo Editorial</dc:creator>
  <dc:description/>
  <dc:language>en-US</dc:language>
  <cp:lastModifiedBy>TORRES</cp:lastModifiedBy>
  <dcterms:modified xsi:type="dcterms:W3CDTF">2010-12-18T22:25:15Z</dcterms:modified>
  <cp:revision>1</cp:revision>
  <dc:subject/>
  <dc:title>Sin título de diapositiva</dc:title>
</cp:coreProperties>
</file>